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D42-619A-47E6-A7A3-6FC001F2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49C-476F-482C-87FA-21335767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E1C-F7CF-4B6F-BC3E-A1FAA701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A9B-E1CB-4A28-BF8D-5CD16537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F2A-84DE-4020-997E-F2A6CE74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572-DB3C-415F-895A-F2AC3BEC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8FC-0E18-46BC-889B-527814BA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312-8637-461E-9F07-C7A1F7B4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0C8-03CD-4786-9612-21ADB67E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B2E-51D5-4CC5-AE49-79EBC283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2BA-23DE-45C9-992B-E2602465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374-6934-471E-9CF0-7D1CEE8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D57D-87E9-4482-A314-5EEC9167C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ember 7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1960" y="2285640"/>
            <a:ext cx="4190760" cy="34290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en Elizabeth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g Phili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anoke Colon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estown Col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rs of Land and S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1500s, Elizabeth of England and Philip of Spain were the most powerful leaders in the wor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wanted to rule the world’s oceans and build colonies in the Americ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s over treasure and religion led to fighting between Spain and Engla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Studies book – Chapter 4, Lessons 1 and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een Elizabeth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81280" y="272880"/>
            <a:ext cx="556272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izabeth became Queen of _______ in ____ – England was not as strong as _____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reorganized the __________ to make it _________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surrounded herself with ___________ advisors, and attended nearly all of their __________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 sent ___________ on costly _________ to find new _____ rout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built up the English 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y the end of her reign, England was one of the world’s most ________natio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SP5S-NA5B-NHN-127.gif"/>
          <p:cNvPicPr/>
          <p:nvPr/>
        </p:nvPicPr>
        <p:blipFill>
          <a:blip r:embed="rId1"/>
          <a:srcRect l="7546" t="20000" r="29507" b="37781"/>
          <a:stretch/>
        </p:blipFill>
        <p:spPr>
          <a:xfrm>
            <a:off x="152280" y="182880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7840" y="151920"/>
            <a:ext cx="3465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ing Phillip II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1527 – 15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880"/>
            <a:ext cx="511164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ain was already a _______ nation when Philip became k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_________ ruler who spent most of his time managing his empir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t _________ to start ________ in the Amer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enlarged the Spanish _____ and 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y religious – wanted to spread Roman __________ throughout the worl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ied to conquer ________ and other countri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P5S-NA5B-NHN-126.gif"/>
          <p:cNvPicPr/>
          <p:nvPr/>
        </p:nvPicPr>
        <p:blipFill>
          <a:blip r:embed="rId1"/>
          <a:srcRect l="54393" t="45561" r="0" b="0"/>
          <a:stretch/>
        </p:blipFill>
        <p:spPr>
          <a:xfrm>
            <a:off x="304920" y="1584360"/>
            <a:ext cx="33526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t Matter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in was no longer the only European power exploring North Americ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and, France, and the Netherlands began to claim land on the eastern part of North American during the 1500s and 1600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noke 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4800" y="272880"/>
            <a:ext cx="556884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gland’s rulers wanted a colony in ______ 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1585, about 100 English men settled on _________ Island, off the coast of present-day ______ 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____ , _____ White (the leader of the colony) returned to _______ for suppli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he returned _____ years later, the colonists had __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_____ Colony” of Roanoke is still a ________ to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SP5S-NA5B-NHN-131.gif"/>
          <p:cNvPicPr/>
          <p:nvPr/>
        </p:nvPicPr>
        <p:blipFill>
          <a:blip r:embed="rId1"/>
          <a:srcRect l="7546" t="0" r="39752" b="61112"/>
          <a:stretch/>
        </p:blipFill>
        <p:spPr>
          <a:xfrm>
            <a:off x="228600" y="1828800"/>
            <a:ext cx="3429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amestown 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733560" y="75960"/>
            <a:ext cx="5568840" cy="65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_____, about 100 men and boys traveled to present-day 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built a ______ on the banks of a riv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named their colony ___________after King _____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1612, John ______ began growing _________ and the settlement grew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________ and the English colonists _______ over land for 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mestown was the ________ successful ________ settlement in ______ 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upload.wikimedia.org/wikipedia/en/b/b2/Map_showing_location_of_Jamestown_and_Roanoke_Island_Colonies.PNG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is Queen Elizabeth I famous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is King Philip II famous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the people of the Roanoke Colon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mous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are the people of the Jamestown Colony famous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1-07T12:02:17Z</dcterms:modified>
  <cp:revision>20</cp:revision>
  <dc:subject/>
  <dc:title>Famous People Friday</dc:title>
</cp:coreProperties>
</file>